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BAE9-3963-4BB3-8686-14803F5A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CA3-E6D5-4A9F-999D-29F30AB0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4EC-82D0-430A-9897-E51DEA48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6B4-ED38-42B6-9002-1CD16F04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2CA-1678-4896-956D-09FA815D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20F-3E15-4FA2-B549-5D63703E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19E2-A8B5-48CE-BAA5-C19A7548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479-37E6-4DFD-9693-AAA6CAC4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C7A-A978-40E4-A871-7851B4D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FBB-AEC2-4F15-BB0C-D6FE945A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6A4-462B-458F-B2B5-2F8401B6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CBE-551C-4059-AB16-EA38815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2E-4474-49F1-92F8-E73D93B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634-EB8E-4083-8842-C7ABEEBF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63C-88C5-429A-B2B0-26C5EDF8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at Hussei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562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numbre es Ayat. Vivo en New York. Yo tengo catorce años. Tengo dos hermanos, una hermana y un hermano. Yo soy bonita. Estoy feliz y enerjica. Adio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12760" y="5029200"/>
            <a:ext cx="64116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950000"/>
            <a:ext cx="536760" cy="785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0228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913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324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7:51Z</dcterms:modified>
  <cp:revision>102</cp:revision>
  <dc:subject/>
  <dc:title>Profile</dc:title>
</cp:coreProperties>
</file>